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7DD-6086-45A6-BCEA-97130FC3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F3C-D5EE-4446-8111-6AF1BE3E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E56AD-3241-48A8-A849-7F94F087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ADBFF-AE45-4640-88B3-E7A7B0BB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62621-F7C7-48CB-BB16-A660FEE6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6B36A-2FAB-448F-8E08-A753CA4D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4DC14-C005-4A83-B2D0-344E91AE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46303-B424-48BE-A060-00747B94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10388-1816-4A8B-9D86-8BAEE6C8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F4904-063C-4DA3-923E-9C8EE707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1D111-6685-494F-9066-37FEE1F0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5326E-DCBF-44FC-8899-FFC152B7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AEE-0526-4915-8DDA-11AFB673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B736E-09A3-421F-8269-C2A8808F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A918A-E7FC-452C-AAA9-CBBE4E04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C91C2-FE5F-452A-8F32-27575244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870EC-3360-4BD1-80A8-6572D2B0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6B6C7-F89B-48B0-999B-0A50A221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211EB-BF24-4E3B-983F-8FAA445A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246EE-7F9A-44E9-B9D5-D93A35B8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046A8-C172-40EF-A52C-FF000870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2FA85-FA7A-4272-9CBA-4F1464FA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31EB4-6B24-4E91-A15A-82F7E6E6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DE5-56C1-4747-82E9-50444AAC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F88A2-CD62-4FF1-9B52-964F3120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1C698-6268-4D3D-A056-9CC10500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5D037-1A13-48E5-965C-F146EFE6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8D11E-7D67-4CB5-A17A-3794922A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7379E-4692-4905-AF77-FCAC664D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C9346-A750-4571-A768-C32AEEFD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23453-A980-44D6-BA6C-AB52004E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97B71-2E32-44C1-8174-10E55CAF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A2365-3357-49E1-83BE-A371EAF0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F0586-0150-4A24-A307-AE70710B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0ADD-0D90-449A-B6FD-CF90E90C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30887-A73A-4359-9356-2ABB3A94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DE47E-A475-499E-8035-141C7156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5C36A-CAB6-44FB-B69A-03831A96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ECE8C-CD6D-41CB-A815-C3039880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CAA37-B617-46F9-931A-C0E709E7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E8B03-4DA1-4B4F-8BFC-E7A4D440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14B67-2FF3-45E9-BA0D-71CC373A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2F368-AABB-4F7A-B91A-004E3915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AA10C-91E9-4264-BFDB-EA15CF1E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99FB0-4B74-49E8-A8CB-E1D75B1B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B9CE-DF9C-4439-8888-6B898332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A64DE-43F1-4C5A-8790-C9030B2D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6D3E7-FB13-4652-BF4B-82ACF3F5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B502B-EF90-48E2-B32A-B08C47E4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75375-3E7C-40E8-B27D-DA7E252C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69C04-9AF6-4E48-9585-B07444C9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521CD-E347-47FA-B890-2A093E44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2C1CC-4886-4FF3-A138-C98B045C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F3DFB-2E5D-4B38-9BE2-C9AD040A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75627-F21E-4E1E-8B16-484D2647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61654-AE9F-4C94-87E5-35BB50D9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A809-F1CD-4656-8B91-4449C11B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C2E81-6BBD-4419-B272-3EE3BAB0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ECA41-9735-4EAC-909F-EA05CBC9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C0EB8-5049-4CFC-ABF2-81F99D22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8FCA2-ADCB-4692-B163-C62A93B8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499BA-4E01-4BD0-BCB3-604854AE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80A4C-DB03-4B9A-8063-C82E266D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D08FB-BF64-499F-9CB3-C2D72561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5875D-785C-4D82-A87B-39C718AF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00AC2-2338-4321-B0E8-7E434062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436ADA-805D-4F89-8E13-03114B4E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0D1E-E1FB-4445-A75B-F21A6462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7A254-8D21-4AE0-B902-A7F31F26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64C86-4EDC-41E8-BD97-7237AD32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BCB3D-5A78-48EB-AEBE-DE03478A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B83D3-217A-4546-86B8-F264C44B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7F6CD-BDB5-4D67-B20E-CFE12202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79AB6-2246-4D72-8703-FF59C25C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2B8A7-CB82-44E3-BED4-84BD53CF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9B63B-4439-4961-867F-203F4C67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E7BED-C2FF-4AF6-A3E9-6FB4A623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99B86-C9DF-41E9-8D2B-89BD2A55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8FFD-B0B2-4A0D-9668-86E15204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8709AC-C166-46E0-A7D3-98850262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23064-84C9-488C-A4EE-E57A2E41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0DB022-738F-4E51-9651-9CB4E44E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EF8A0-C1BA-493E-B3F9-46BFB280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11877-7C5E-4BA3-9D7B-EA418F00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D0CD7-D134-4466-AE7B-67A82E54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ADCBDB-7576-4D5B-A6DB-825604EB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6A019-BE33-48F1-9069-02477AEA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6D92A-2A8C-4CA2-9F1D-C18AAE53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E28EF2-5337-4659-B962-0DBD89CB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13D9-2EF6-4258-B54F-B180D8DA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F6A6F4-1B25-4227-8F3F-0CFAC5C2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54EC43-AAFF-451D-97FF-DBC743E9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27BEF-8C7C-4E68-A101-BA07BFB2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82FF0C-2CB4-4689-9871-700A20BC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765A6A-A30B-48AB-BA4F-1959F689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65F5D4-7857-4011-B08C-AA638BF0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19964D-8F17-46C5-9A79-84497ED7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58511F-A574-4DC4-94F7-28FB73D1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2BB92-3D24-4A9B-B0DB-94B8F951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C55E7-3A20-4584-B0F7-6824C80C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CC10-95D8-481F-91BE-810EA7A8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9E52E4-E7E2-4757-9BAF-7123AD97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BFE9E-211F-4ADB-A0DF-6A74BDD1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6FA35-EFA9-45B2-A3E4-25E71091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9212AD-5B02-4F0E-B701-A5ADAB63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BDDA8-EDF5-4C80-BBB9-34BD831C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E128DD-84E6-4873-8C96-F362DB7B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A569DA-165E-42A7-828D-E587A832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F63778-6451-44B8-AC15-96F990C6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2BF48-5A7C-4D64-8A60-64E1CEE9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D065FC-887C-4A54-8DEC-8AF62C42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4B6-3B4B-4191-B16D-A67B59C2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D0C5-99C5-4F8F-9DBF-82DC354F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1CAFB-859D-4819-B593-CBC0BA53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C98EA7-3AFF-4C6A-B3B0-35369055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E5081A-C899-4D96-A5CE-96421EB9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CB3ACD-0C29-46CA-B1FA-2A45B6D7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7C987-9BC0-41B8-9414-51702C07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D4BADA-205E-4572-833C-04192369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721ED-A47D-423D-88A7-1C431F70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66503-F98E-49BE-A790-CCB12981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89F93-07D1-4BBF-800D-0EFC4B83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7BD06D-E0A4-457F-8982-7204D26E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5A88-ACEB-44A1-A71B-6BE822BD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EB32DA-5F1D-4CA4-A8CB-AE20108C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EAC7A-CF89-4ED4-858C-CB09E433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47D652-DBEA-4804-9BE9-113192BD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06360-E41C-42BD-B3BE-93438F67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D2B979-EE4C-42AA-B13E-A6CB75AC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9B11BA-E172-4979-84BA-88022D45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497D4-3FB2-4AD1-BCBE-B58CF09C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021CD-5759-4C22-91F0-86216D91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DE4CB-72C1-457E-8C90-B024EF80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BFCB22-27A9-4160-9D6B-55B6C564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1FC1-DBC8-4DBD-83BE-19499005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014EA8-3A43-4EA8-A93D-1E0491FF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4D03B-CE4D-4328-9D9B-8B537260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50F68-CADB-400B-9EFC-1DC9587B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7982E-BFD6-46C0-902D-837E3956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973B7B-3B3E-48F6-963E-4AA0FE2D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18E105-D7DF-4698-BA85-1542FC6E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933763-03EC-492B-8587-B926B1C4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1FABD-0940-4AA6-9ED4-3607F4DC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5C505C-E8E7-4BAD-BB1E-F24933BB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219852-0661-4B33-A7C2-E372E6B4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46CE-CABE-4234-85C4-01638528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2C1453-E474-416D-AB6D-9D40AC05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444C4C-4F4D-4FF8-AE01-928EDF28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B94F90-C257-4204-8124-B2A779E4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E63693-301E-459A-BE3E-54EF762A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66F494-40D9-4142-9EF0-8FE23965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957EB0-4608-440C-8040-94B20A7B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5071E9-1293-40BA-9BB4-855A3E0D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5CDBF5-C7C4-4DC2-86B5-B283E6A8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217575-7CF4-42AC-90CC-0F822F7E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1F2428-C421-4326-985C-0FE6E423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0A87-C789-4CD0-9DDA-921721AF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6BBEF-3FA6-4FCA-9D60-18DF28AF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A27B71-CD57-4D9C-9743-481CD500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D7E4A4-4B66-41D5-9075-4B3978F0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345B31-6F6C-4C8D-95B8-05E66038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38E5F8-25AC-4DD9-8DCD-27786986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EA1CF4-2FF4-46FC-B489-14C02011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971B6-73CB-4629-8FCE-F1CF31E8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5317CA-C222-449C-9EDB-3437F2A6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885F65-34D4-4B6D-BCCE-A03E444A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512DC5-F2EE-4F24-B3BC-B560FF4A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94BC-F36E-42BC-96E2-48606086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1F9A42-FDFC-4FAB-AABB-9A271125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58D2B1-5BA8-4744-8818-1DC048B5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E61621-3C5A-4176-A2B1-6DBA0747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C29F86-142A-4ADA-81A4-A50AF9F8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A90278-9CF2-47C0-BFCE-9BF1B1A6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3713EC-D469-4AB8-8E1A-BC301E84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36E23F-8E60-47C6-ADBB-4F4B6B3A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03095F-6874-455E-87ED-C8E87D1C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CAA57E-1771-44A5-BB38-BBA5E6C1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ABC584-2337-4235-840A-096EBD51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9BEE-4460-499C-BB01-6DDFF569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BC59AF-FB82-4CF9-8AF2-1ED94637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6C815D-C5BD-4296-9FBD-B19AD47E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CA5720-1CE1-4AA5-A9E0-04B2CAC0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3E2AC8-CA0F-4663-9B8D-2869C4EF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F361E4-A71B-418A-960C-F426BCFB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2CA4A4-16EE-48D2-9D33-3EF2B49C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CD81E2-4BB0-4409-B3DF-0C6AF0F9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24EAF4-9E1C-4FC0-9789-ADD3CAAF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B84DDF-7340-4C5B-A41E-5E277054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E424AF-531F-49B1-94A6-701A9DB7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081F-D619-468E-94AD-F054C49D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E3017A-BCA7-4B1F-937D-B237A0A5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79D944-23BB-43DC-BA09-13DF3EDF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7947CC-264C-4A24-A62C-53017532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92814E-3028-4512-B248-D7FA1AA2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1AB3B7-3288-47C5-BC97-4B4CF2F9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0741D9-AE3E-4267-97D2-1C8B55B0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ED0A59-DC63-44B6-BBEA-0A1565DA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C6D7E3-67C5-4060-BAF7-3A9339D4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6B441B-0FC7-4105-8130-92A30D98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E1F0B1-DF80-4EF0-92DE-EB8A840C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CDC21-EAE9-4334-AA93-9259C17D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398134-21F1-4386-9FA9-DE41C801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135F9F-0BAC-4177-8B78-A35C530E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77D122-39D6-45E3-BDB6-2F24A161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B8A2B7-B33E-48CB-A591-4148FE01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F37306-4989-4E16-8CD4-9AB36B99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F5E252-379A-47AA-9D18-97609081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983BCB-F119-4348-B6B8-FB677C75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B12F8D-BB7F-4020-909E-57C321FF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B1F855-875D-4F98-ACC3-3C510E8E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6891E5-3081-485E-B3CF-3110C130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40533-C9F1-4BE7-9D45-7D98FAB4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227FAA-8FDE-4332-A3D2-234A9EEB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1F6745-29AE-4163-B560-14E8B964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AF3C4A-A723-41B6-A598-E7B75955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1772C8-E278-454D-8C19-B7F24DFF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585069-1E36-497F-BDCC-916F394E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E91113-C23B-4C1A-A25F-9A6999E1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794EC6-62DD-4B52-915F-4E759D1D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474E24-1D41-4AF0-8BCD-99E88070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7F5415-4425-4208-84E2-A289E984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7A00CE-D915-4702-8AB2-65B4C17F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ED3-98EF-4699-A142-4458FA41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D431F-EF4E-4282-A2E9-817C5B13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6589E8-0C9D-4ABC-824B-FD18B8F5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DFF644-3C51-4EA7-9154-653B4541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8B1F71-B387-44D5-AAF7-C5C55DB2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BF88E4-6680-43C0-BC32-CCAA1A1A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D4DF8B-C89B-4375-906A-A9304A88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4C792C-DA2E-4987-A090-820773B6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2DDBA5-EAE9-4D04-85E4-CA321638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2C0E11-58AF-49FE-B00C-0EF8AE86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0955DB-1F2E-4EC1-B36B-E765B68D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7CF1A7-F944-44F4-B4DD-01C723C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68C4-4388-4296-90A9-E9291C20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3E573B-0470-4723-B58D-C3111591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D9CB68-4AFA-44A3-B172-ABC4A8D6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72C285-0C0C-437D-ACFD-B0E5005A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8240F4-B9C5-46A8-96A4-3E703753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6954DA-C4F1-4131-9119-79E74953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7AA10A-3635-458F-BD22-79EC2A12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164606-60FC-44E1-8AA3-9389C8AB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506E10-0A12-4E13-9214-B94B4EB6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1FD798-2A34-4871-BC72-C90D864C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7FBA81-15E4-4F30-8F1F-05BD93FD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2FA0-9279-4F91-AE93-946394AD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19B9FC-1D1D-45AB-AB30-7A1717E3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166C2C-9923-499B-BD69-1C9422BA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4F9F6A-5194-405B-959A-4C8CA848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6FBD38-61DD-47AB-A258-3B0AC357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AD71DF-1F42-4154-BF8F-19471AE4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1F647C-7C35-45A3-8AA8-4B54D320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722B91-CC5B-4797-8FD3-5423B4D1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95E0E9-49AB-4BF1-82BB-AB9A2380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EB48B0-45EF-4FB2-AA7B-427BFB5E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E09E92-4D6A-4064-B2F3-CD0BC520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18F4-6015-4467-8D6B-C2632849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BBAA94-60C1-4719-AD4A-A2F8ED7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484F0C-0908-4C0D-ADB4-161C88E1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9A151B-8DD7-4599-B805-66B96957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DC5B6B-CE67-4795-8DF7-6223D0D9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52E7D1-1D8B-4DEA-AE60-6ABEF746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1A7ACE-AA8B-45BF-9B08-7B2E6845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94F463-B2E6-4164-A210-1A3DCD55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8088B0-AF9F-4FEA-B7A7-BB533A0C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97B180-B4BE-4765-8C5F-30170D81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D26C0B-6E65-4729-8E6F-D4C6D340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5E55-80BD-47F6-9CA1-A0A687E6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9A7E4B-3659-4A69-B660-329F046C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330C75-6C71-44F3-BFBD-7ABF8E76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C8AACD-2799-4405-8EF7-B5A30730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EE35A1-5831-4689-94F0-8B63E5CB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A31412-E910-44ED-90CE-568A4F4F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3B1AB0-042A-4696-9ADD-1CC3B214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EDA1F5-897D-4486-96B9-238635C8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2FBDA0-9B34-41A3-B5FC-2D0F5B4C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F6E637-39DC-4F8B-8E7E-054303A1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9D1A87-5014-4CBD-8512-625E5E6D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0C5E-9071-4D07-97DA-6D016775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9099D9-3665-4DF4-9969-3F09CD0C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2FBE5C-7CC5-4B46-9590-9B7CDB39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84FD23-7CC7-4C87-89F7-CF867D5C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8CA108-1BA5-4D82-A0B6-C4BC81E5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6F8A60-D675-4E49-912B-33DD2C2C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434983-AE13-42DC-8A99-F9411009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2E1E11-C8D2-425E-933E-76CFC4E1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E2FA01-5913-4A91-9C94-44791AAE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C55AB0-4599-49E8-AC54-41D868AE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E2D221-6D81-4D02-9D56-9EFCDBF8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374B-D82B-4604-B3BC-576D89B4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3EF6EB-2AA9-41D5-A619-17983CB5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073242-4BE0-4B2A-870B-85F36367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E8B4D8-B314-44A3-AFF4-A87CED8F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0326CA-961E-4750-9C69-1EA2C5BD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FB2D51-AF23-4812-A2B5-AF0162F2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ADE1D0-03EB-48C1-B69F-46F1C25B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2C242A-998F-49DC-94A8-87977A7F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3F6EFA-ADC7-4C98-914D-1B6F00BA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D45802-1E7E-42D5-958F-C08AFBBD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AFB929-B249-4616-B5B7-BB275035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E1F18-A178-4516-97F2-88116CF8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75AB8F-1622-4924-B758-F0E29442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EB7888-5482-4C1A-9A92-7BBF10F9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762E47-FFFA-46A3-9C60-114FD4F8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09B05-52DA-42E2-8A5D-32B196F1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6C619-7B2E-4C0A-BA86-66E98116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7CA-D96A-472D-96F0-52A626A1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76A4D-20DF-460F-AEF0-1F5DB64E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3A82C-49AD-4A83-8DC9-6131C10C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A190C-D279-4C32-929F-8CCC9C15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56423-A09C-431C-9DF2-4631A413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852D0-1CA2-4939-BF39-A8E8D693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24BE8-27C1-417F-A66F-026B3F3B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38058-EAF6-427B-9676-7DD298D8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51450-458F-4C24-8D08-B1268DC5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D17D3-161D-4680-8DDD-96022681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6A385-DFE4-4B32-87FA-D13C6A57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14D-28E4-49A8-9FBB-C272F0FB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BFDB2-FD64-4075-8862-E92CFAD3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1F01-BB34-4B8E-B282-F1C72CEA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35FE8-E1F2-47E9-8B3C-E11ACCC0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D0881-7B51-4AAE-B11D-59308D61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057AB-110E-4AD7-B0C2-ACEBA826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D5349-C06E-4EC2-A792-0BCAD503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A7584-4118-4B9B-9F1A-2ED26FFB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D01CC-B97A-4D4A-8942-8EC82B1F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EF3A3-D036-444F-8D5B-44748E45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3BD5F-E448-421C-9290-14A9E8AD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3D1-2874-4B66-8D19-979D060C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D9469-B10E-4473-8A6A-DF3E2B17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CB96C-B3B5-48C8-8CB4-02896448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6B06F-20AF-4596-A93F-A950B746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E5AD4-17CA-4F11-97CD-A7035075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2B2BD-A077-4953-ACDE-45A54E87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DFE86-DA2C-46C4-85C6-E68C4195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C6916-89FF-45DB-851B-B834D014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2BD23-F690-4AA1-8BCC-2381A592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D3C09-06E5-4E18-A6D8-BDC8B982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DF088-B399-4CC4-B866-DC59622D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077-DFE4-42CC-B654-11BA8855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B4D97-4DE8-4B05-936F-2BEC225B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A4F14-F455-42BF-99FE-72C8B886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DF960-1CEE-4BDF-88BC-667F2D3C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DDC5B-B6AA-4761-85FD-F8CA4196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D302E-3F19-40AD-92C5-9A43050E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03C94-32A8-4F35-90D1-13667B72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66A02-84C5-41DC-BC93-FBFCD644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1DC87-3C42-46FC-81B5-F907A198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3A1EF-B41D-415D-A938-2D99861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FF7BC-4673-4FC2-903A-75A80265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23D-DCA8-435C-A84F-81E62AA3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2346F-A9D0-4959-A881-1FC892F5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C0BDB-459F-4307-ADB2-ACBCD1AA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E945F-010A-4BF5-8B2F-DA0D16F6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CAE2C-E3A4-4DA7-A5B9-C8CA265C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19608-A0B3-4643-AE07-C2FA7537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0C5FD-C36C-4C54-9FE0-399FA483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AFB84-47A1-4AD2-A919-7222EFED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8C829-41AE-4BD7-98CC-38F28E27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CAF1F-E15E-4D82-BF22-00423856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A498C-A513-4189-A564-4D3EA7E3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945-8726-4E87-A4D5-0F2808A9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9FDE6-5BE0-4B04-8DA7-6F9BEC0E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D2719-317F-4917-8FCB-6100CB4C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767A9-3DAA-454B-931D-F0A6E9B1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6B8A7-50FA-458A-9877-5F90CC18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C189C-9680-412B-8AEC-CAE272BE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CEED8-AD5C-484D-BB74-2A299D49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F3E7C-5E1D-494E-A138-BC7B34C1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DC786-2DD3-4B6E-A3CB-7CDAC43C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4ED6F-ECBA-4AB9-BC05-312A0628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41D81-2776-496C-8CFC-64454FCB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C06A-72A6-4E42-9B66-6B59D2EDE2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1297-CD60-42A0-924F-E97DAE2AB1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0309-AC84-4214-B851-37B25833C2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8A6E-46CC-4321-A13A-816E317F66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74F5-FDBF-4A6C-A1D3-C8FABB1F66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FA91-0F19-4113-8294-8F67495555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91AF-ADF5-42B0-A188-925FA9477B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4831-600B-4F24-8108-CAE0F86DB2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E6D9-3F45-4C1F-B5BE-EB30777A00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92FD-12DF-4E4E-A2DA-4340A453CE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D6E1-7ADC-4C10-86B2-ADBF5DFD9E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31A0-339F-48DA-8B22-310A8BD65B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8AF4-52AC-476E-8D22-EED6BD898B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F575-874E-4138-9C05-676CF4245A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B36E-AA7D-4024-8307-E664B6B529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91F2-1028-46C5-9BD3-08D3ED072C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6B95-485C-46BF-9B74-793D9874AB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4DC6-967C-4D40-BCDB-381ACB2296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A43D-070C-42E2-8919-26E811773F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AE1B-704B-4AF2-A8BF-148DBAC5A3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4FA7-07EE-4E21-AA6A-C5DFF75CE6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3358-8C43-4730-AF59-BB27559FF9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56E8-7F3F-4418-8D5F-D8ED7E945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C5F0-71B4-437B-893F-C1D3E14BD3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1A2F-93E6-4866-A5CE-27E958D4CE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477B-40C7-47CD-8E88-803192980F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40DD-B53F-4888-9ACD-3232D53CEB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637D-23B1-4116-986F-0A87C00DC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4C6B-1F7D-46A6-BFAA-A0027DB703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D235-9979-4D96-B9F7-414C9F9F26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B323-AAA8-4DA6-81D8-E1159E3CEB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D07C-A3CD-4424-B60B-5C6FD1E4A3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7AAD-58EC-4757-8653-CB5F93830D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DB96-B02E-4F2F-BBE3-EFD9480D49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D99C-98B2-449D-B6A1-69CB0D799F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E72D-E462-4395-B727-06D58C9F44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7222-A515-4422-BAA4-BFB95F35C6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5F41-FEFB-45D8-A29F-33F9DDA553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AEB7-E3E5-4042-9E03-9CC0379826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F30A-CD3B-46EC-8C77-020E2079E1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F2E5-442E-44CF-B8C4-21D8D28DA0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E16F-8F9B-45E9-AE7A-26839B94B3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EB2F-9D32-47A4-A8BF-0E401B1E81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3BCE-2662-4D07-91A5-88CDEE6A58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3BBA-1A31-4B6D-96CB-21C507A6C8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BE49-7002-4783-9937-65E7128F51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AC5E-BEFE-48AC-86DA-22AD66D430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EFFD-A366-4D8E-9569-9FD3240A23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5915-14A9-415C-8139-102351CC87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C3F5-178A-4182-95EB-97D675CE17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492360" y="1628640"/>
            <a:ext cx="2210040" cy="107640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962160" cy="83808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63342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6737" descr=""/>
          <p:cNvPicPr/>
          <p:nvPr/>
        </p:nvPicPr>
        <p:blipFill>
          <a:blip r:embed="rId1"/>
          <a:stretch/>
        </p:blipFill>
        <p:spPr>
          <a:xfrm>
            <a:off x="776160" y="1728720"/>
            <a:ext cx="7591680" cy="340056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6738"/>
          <p:cNvSpPr/>
          <p:nvPr/>
        </p:nvSpPr>
        <p:spPr>
          <a:xfrm>
            <a:off x="5837400" y="1724040"/>
            <a:ext cx="8953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6739"/>
          <p:cNvSpPr/>
          <p:nvPr/>
        </p:nvSpPr>
        <p:spPr>
          <a:xfrm>
            <a:off x="6621480" y="2216160"/>
            <a:ext cx="8953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6740"/>
          <p:cNvSpPr/>
          <p:nvPr/>
        </p:nvSpPr>
        <p:spPr>
          <a:xfrm>
            <a:off x="7203960" y="2679840"/>
            <a:ext cx="12556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6741"/>
          <p:cNvSpPr/>
          <p:nvPr/>
        </p:nvSpPr>
        <p:spPr>
          <a:xfrm>
            <a:off x="752400" y="3171960"/>
            <a:ext cx="12556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6742"/>
          <p:cNvSpPr/>
          <p:nvPr/>
        </p:nvSpPr>
        <p:spPr>
          <a:xfrm>
            <a:off x="2933640" y="4146480"/>
            <a:ext cx="55260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6743"/>
          <p:cNvSpPr/>
          <p:nvPr/>
        </p:nvSpPr>
        <p:spPr>
          <a:xfrm>
            <a:off x="1116000" y="4619520"/>
            <a:ext cx="3024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991640" cy="584856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0"/>
          <p:cNvSpPr/>
          <p:nvPr/>
        </p:nvSpPr>
        <p:spPr>
          <a:xfrm>
            <a:off x="2268360" y="2349360"/>
            <a:ext cx="503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1"/>
          <p:cNvSpPr/>
          <p:nvPr/>
        </p:nvSpPr>
        <p:spPr>
          <a:xfrm>
            <a:off x="4097160" y="3556080"/>
            <a:ext cx="835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2"/>
          <p:cNvSpPr/>
          <p:nvPr/>
        </p:nvSpPr>
        <p:spPr>
          <a:xfrm>
            <a:off x="5965920" y="3565440"/>
            <a:ext cx="8348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3"/>
          <p:cNvSpPr/>
          <p:nvPr/>
        </p:nvSpPr>
        <p:spPr>
          <a:xfrm>
            <a:off x="4284720" y="4076640"/>
            <a:ext cx="165564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4"/>
          <p:cNvSpPr/>
          <p:nvPr/>
        </p:nvSpPr>
        <p:spPr>
          <a:xfrm>
            <a:off x="3292560" y="4570560"/>
            <a:ext cx="30798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5"/>
          <p:cNvSpPr/>
          <p:nvPr/>
        </p:nvSpPr>
        <p:spPr>
          <a:xfrm>
            <a:off x="5543640" y="548496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6"/>
          <p:cNvSpPr/>
          <p:nvPr/>
        </p:nvSpPr>
        <p:spPr>
          <a:xfrm>
            <a:off x="2228760" y="5977080"/>
            <a:ext cx="1766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7"/>
          <p:cNvSpPr/>
          <p:nvPr/>
        </p:nvSpPr>
        <p:spPr>
          <a:xfrm>
            <a:off x="5845320" y="5996160"/>
            <a:ext cx="1766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3905" descr=""/>
          <p:cNvPicPr/>
          <p:nvPr/>
        </p:nvPicPr>
        <p:blipFill>
          <a:blip r:embed="rId1"/>
          <a:stretch/>
        </p:blipFill>
        <p:spPr>
          <a:xfrm>
            <a:off x="738360" y="2095560"/>
            <a:ext cx="7667280" cy="266688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3906"/>
          <p:cNvSpPr/>
          <p:nvPr/>
        </p:nvSpPr>
        <p:spPr>
          <a:xfrm>
            <a:off x="3695760" y="2198520"/>
            <a:ext cx="13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3907"/>
          <p:cNvSpPr/>
          <p:nvPr/>
        </p:nvSpPr>
        <p:spPr>
          <a:xfrm>
            <a:off x="5373720" y="2168640"/>
            <a:ext cx="1285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3908"/>
          <p:cNvSpPr/>
          <p:nvPr/>
        </p:nvSpPr>
        <p:spPr>
          <a:xfrm>
            <a:off x="3122640" y="2681280"/>
            <a:ext cx="1285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3909"/>
          <p:cNvSpPr/>
          <p:nvPr/>
        </p:nvSpPr>
        <p:spPr>
          <a:xfrm>
            <a:off x="4630680" y="2679840"/>
            <a:ext cx="1285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3910"/>
          <p:cNvSpPr/>
          <p:nvPr/>
        </p:nvSpPr>
        <p:spPr>
          <a:xfrm>
            <a:off x="6448320" y="2681280"/>
            <a:ext cx="1285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3911"/>
          <p:cNvSpPr/>
          <p:nvPr/>
        </p:nvSpPr>
        <p:spPr>
          <a:xfrm>
            <a:off x="1927080" y="3192480"/>
            <a:ext cx="17082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3912"/>
          <p:cNvSpPr/>
          <p:nvPr/>
        </p:nvSpPr>
        <p:spPr>
          <a:xfrm>
            <a:off x="2509920" y="3675240"/>
            <a:ext cx="17082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2881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39160" cy="548640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22882"/>
          <p:cNvSpPr/>
          <p:nvPr/>
        </p:nvSpPr>
        <p:spPr>
          <a:xfrm>
            <a:off x="7715160" y="253836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2883"/>
          <p:cNvSpPr/>
          <p:nvPr/>
        </p:nvSpPr>
        <p:spPr>
          <a:xfrm>
            <a:off x="7786800" y="4959360"/>
            <a:ext cx="5490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21857" descr=""/>
          <p:cNvPicPr/>
          <p:nvPr/>
        </p:nvPicPr>
        <p:blipFill>
          <a:blip r:embed="rId1"/>
          <a:stretch/>
        </p:blipFill>
        <p:spPr>
          <a:xfrm>
            <a:off x="573120" y="1003320"/>
            <a:ext cx="8010360" cy="1952640"/>
          </a:xfrm>
          <a:prstGeom prst="rect">
            <a:avLst/>
          </a:prstGeom>
          <a:ln w="0">
            <a:noFill/>
          </a:ln>
        </p:spPr>
      </p:pic>
      <p:pic>
        <p:nvPicPr>
          <p:cNvPr id="1456" name="图片 121858" descr=""/>
          <p:cNvPicPr/>
          <p:nvPr/>
        </p:nvPicPr>
        <p:blipFill>
          <a:blip r:embed="rId2"/>
          <a:stretch/>
        </p:blipFill>
        <p:spPr>
          <a:xfrm>
            <a:off x="966960" y="3116160"/>
            <a:ext cx="7648560" cy="280044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21859"/>
          <p:cNvSpPr/>
          <p:nvPr/>
        </p:nvSpPr>
        <p:spPr>
          <a:xfrm>
            <a:off x="7740720" y="213372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20833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29800" cy="534348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20834"/>
          <p:cNvSpPr/>
          <p:nvPr/>
        </p:nvSpPr>
        <p:spPr>
          <a:xfrm>
            <a:off x="7740720" y="242100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0835"/>
          <p:cNvSpPr/>
          <p:nvPr/>
        </p:nvSpPr>
        <p:spPr>
          <a:xfrm>
            <a:off x="5540400" y="479268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9809" descr=""/>
          <p:cNvPicPr/>
          <p:nvPr/>
        </p:nvPicPr>
        <p:blipFill>
          <a:blip r:embed="rId1"/>
          <a:stretch/>
        </p:blipFill>
        <p:spPr>
          <a:xfrm>
            <a:off x="566640" y="1552680"/>
            <a:ext cx="8010720" cy="375264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9810"/>
          <p:cNvSpPr/>
          <p:nvPr/>
        </p:nvSpPr>
        <p:spPr>
          <a:xfrm>
            <a:off x="7740720" y="299736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8785" descr=""/>
          <p:cNvPicPr/>
          <p:nvPr/>
        </p:nvPicPr>
        <p:blipFill>
          <a:blip r:embed="rId1"/>
          <a:stretch/>
        </p:blipFill>
        <p:spPr>
          <a:xfrm>
            <a:off x="571680" y="2247840"/>
            <a:ext cx="8001000" cy="236232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8786"/>
          <p:cNvSpPr/>
          <p:nvPr/>
        </p:nvSpPr>
        <p:spPr>
          <a:xfrm>
            <a:off x="7740720" y="3213000"/>
            <a:ext cx="5493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7761" descr=""/>
          <p:cNvPicPr/>
          <p:nvPr/>
        </p:nvPicPr>
        <p:blipFill>
          <a:blip r:embed="rId1"/>
          <a:stretch/>
        </p:blipFill>
        <p:spPr>
          <a:xfrm>
            <a:off x="604800" y="1424160"/>
            <a:ext cx="7934400" cy="400968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7762"/>
          <p:cNvSpPr/>
          <p:nvPr/>
        </p:nvSpPr>
        <p:spPr>
          <a:xfrm>
            <a:off x="3395520" y="4948200"/>
            <a:ext cx="8892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8:00:30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